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3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4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5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60CEF-B4A0-41CE-BA27-AF844097D8F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D6F4C-18F1-4748-B119-535C9CCE281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5EC8C-4797-4847-9985-0B19AD9CC7C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5C8EE-3A14-4C5B-9702-FAB073FB2D0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4F0FA-FC76-4DBC-B0B3-E3F14202F0D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5B274-EC3D-4812-BB3C-B0EECEA63B5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84563-6902-429E-A01F-6CF74F617EA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EAB5C-E0B0-4901-B846-971E98E5C0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5AA9A-2488-4093-A7D7-8C24D41288C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F8012-D71A-4B59-A6A5-E855CC51A17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0165F-1831-4A9D-9767-97B584720AD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D4885-1368-438C-8068-BD1359ACE9A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694C1-5F0E-4917-ADD0-F5AB89C8BDD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FC8-857E-4861-AF4D-20F3292C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709-B2F0-44BE-A6CA-FEC7638B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922-4C2F-454B-A6F4-5B45F56C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807-57FA-4348-81F5-93A95B2C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3CA6-65F5-465D-9BA4-A93B286B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56CA-A08A-457B-A994-ECE19AA2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4D10-3ADB-4855-8443-E2B71C7E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59B5-8CD1-430D-8065-CAB1B139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74C1-69D6-4E80-AF07-53385515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FA67-857A-499B-B0E6-6CF521A6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904A-4AB0-4881-8504-12C339B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D6F-39A9-4853-81B0-CD682F64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39FF-FAE7-4E84-A586-85AD7D45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C2F2-F909-47C8-ABCE-DF5CC553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E1D8-E31C-4FCF-BECD-7B274E12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B91B-FD6A-4D13-AAD8-71C5A3E9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5B80-03BE-4EDA-B134-97B125A9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09ED-9269-485D-9BF3-841DD675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4C336-8D37-4CF9-ABDB-05AF6F19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AE01-0D21-4D39-8852-C40BA208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47F8-EBCE-4E31-B54A-6AA8BF89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DBD9F-E46E-4BFC-8E9E-E484BC5E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ADF-CECB-480E-A689-D4DC54A5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9DAEE-1891-48B9-9C80-505CA924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DA2F-0545-44A9-8A4B-FFD6615E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23105-EE08-472A-A39B-EAF0BB7B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9E4D9-A8C5-400C-A0E3-2CF9A708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6434-7C27-4947-A3A6-404D6E63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A617-0F0D-4577-909F-49B1D545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3163-A96B-40D9-97AD-D7B75F62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1842-3131-4E1E-9F20-CB6E45F8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70AE5-A62D-45E0-A737-4DA74205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B637-2C99-4E59-AE12-2A8B494B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A6F-B81C-4583-A686-29C5E7E4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E9C31-1125-4DF1-A79E-617D7755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8CC7-F48B-4B0C-92AA-DD7CAA85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E219-6369-43C1-8244-22824C17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828D-276A-465D-A08C-E86B962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C13BD-5096-4BA6-B575-924DF1C6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21AFB-73A2-4BC7-B0CA-7C0831DA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766C-5A1C-483D-AE27-0BAFABE5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8EED-00AF-4501-B45C-09614838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5462-CA59-40EF-97BD-EC070FAC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2FC-FAEF-46DA-8A27-62696DF8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E9D-7EC1-4177-8EFA-7F4E4B96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2B0-7287-48FA-A0FB-AED3DE5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B93-4180-4CDC-B483-EC5D190C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F27-FD9E-4CBE-BBEB-CE7F7B6A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l-GR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798C7B-4781-4CBD-B9BB-8EFC45281009}" type="slidenum">
              <a:rPr b="1" lang="el-GR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l-GR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0B9329-61DE-4B73-9F91-937C3D0FB8EC}" type="slidenum">
              <a:rPr b="1" lang="el-GR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l-GR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3375E8-8E49-4625-849B-BD94BA234FDF}" type="slidenum">
              <a:rPr b="1" lang="el-GR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l-GR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1DC65A-EFCB-4090-AAD2-5F9834C59A55}" type="slidenum">
              <a:rPr b="1" lang="el-GR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7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Τίτλος 1" descr=""/>
          <p:cNvPicPr/>
          <p:nvPr/>
        </p:nvPicPr>
        <p:blipFill>
          <a:blip r:embed="rId1"/>
          <a:stretch/>
        </p:blipFill>
        <p:spPr>
          <a:xfrm>
            <a:off x="573120" y="1054080"/>
            <a:ext cx="89978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6335640" y="2411280"/>
            <a:ext cx="3708360" cy="5113440"/>
          </a:xfrm>
          <a:prstGeom prst="rect">
            <a:avLst/>
          </a:prstGeom>
          <a:ln w="0">
            <a:noFill/>
          </a:ln>
        </p:spPr>
      </p:pic>
      <p:pic>
        <p:nvPicPr>
          <p:cNvPr id="241" name="Text Box 2" descr=""/>
          <p:cNvPicPr/>
          <p:nvPr/>
        </p:nvPicPr>
        <p:blipFill>
          <a:blip r:embed="rId2"/>
          <a:stretch/>
        </p:blipFill>
        <p:spPr>
          <a:xfrm>
            <a:off x="109440" y="324000"/>
            <a:ext cx="925380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1" descr=""/>
          <p:cNvPicPr/>
          <p:nvPr/>
        </p:nvPicPr>
        <p:blipFill>
          <a:blip r:embed="rId1"/>
          <a:stretch/>
        </p:blipFill>
        <p:spPr>
          <a:xfrm>
            <a:off x="73080" y="285840"/>
            <a:ext cx="9961560" cy="1506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1008000" y="1907640"/>
            <a:ext cx="5291280" cy="5396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lnSpc>
                <a:spcPct val="80000"/>
              </a:lnSpc>
              <a:spcBef>
                <a:spcPts val="675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700" spc="-1" strike="noStrike">
                <a:solidFill>
                  <a:srgbClr val="404040"/>
                </a:solidFill>
                <a:latin typeface="Trebuchet MS"/>
              </a:rPr>
              <a:t>Βόλος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 μόνιμος σύμβουλο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4 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εθελοντές σύμβουλο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75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700" spc="-1" strike="noStrike">
                <a:solidFill>
                  <a:srgbClr val="404040"/>
                </a:solidFill>
                <a:latin typeface="Trebuchet MS"/>
              </a:rPr>
              <a:t>Λάρισα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75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6 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εθελοντές σύμβουλοι</a:t>
            </a:r>
            <a:r>
              <a:rPr b="0" lang="el-GR" sz="2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 εθελοντής επόπτη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75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700" spc="-1" strike="noStrike">
                <a:solidFill>
                  <a:srgbClr val="404040"/>
                </a:solidFill>
                <a:latin typeface="Trebuchet MS"/>
              </a:rPr>
              <a:t>Τρίκαλα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 εθελοντής σύμβουλο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 εθελοντής επόπτη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75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700" spc="-1" strike="noStrike">
                <a:solidFill>
                  <a:srgbClr val="404040"/>
                </a:solidFill>
                <a:latin typeface="Trebuchet MS"/>
              </a:rPr>
              <a:t>Καρδίτσα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 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εθελοντής σύμβουλο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75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700" spc="-1" strike="noStrike">
                <a:solidFill>
                  <a:srgbClr val="404040"/>
                </a:solidFill>
                <a:latin typeface="Trebuchet MS"/>
              </a:rPr>
              <a:t>Λαμία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lvl="1" marL="1484280" indent="-56844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Times New Roman"/>
              <a:buChar char="–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400" spc="-1" strike="noStrike">
                <a:solidFill>
                  <a:srgbClr val="404040"/>
                </a:solidFill>
                <a:latin typeface="Trebuchet MS"/>
              </a:rPr>
              <a:t>1 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εθελοντής σύμβουλο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6912000" y="2535120"/>
            <a:ext cx="3120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1" descr=""/>
          <p:cNvPicPr/>
          <p:nvPr/>
        </p:nvPicPr>
        <p:blipFill>
          <a:blip r:embed="rId1"/>
          <a:stretch/>
        </p:blipFill>
        <p:spPr>
          <a:xfrm>
            <a:off x="73080" y="189000"/>
            <a:ext cx="10009080" cy="1506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718920" y="1692000"/>
            <a:ext cx="6624360" cy="56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Νοέμβριος 2007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έναρξη λειτουργίας στον Βόλο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Φεβρουάριος 2008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πρώτες συνεδρίε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Μάρτιος 2008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συνεργασία με το Κέντρο Ψυχικής Υγεία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Ιανουάριος 2011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απασχόληση εθελοντών στο Βόλο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Σεπτέμβριος 2011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παραρτήματα και στις άλλες πόλει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lnSpc>
                <a:spcPct val="80000"/>
              </a:lnSpc>
              <a:spcBef>
                <a:spcPts val="64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Νοέμβριος 2011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</a:rPr>
              <a:t>πρακτική άσκηση μεταπτυχιακώ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6696000" y="2535120"/>
            <a:ext cx="3336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1" descr=""/>
          <p:cNvPicPr/>
          <p:nvPr/>
        </p:nvPicPr>
        <p:blipFill>
          <a:blip r:embed="rId1"/>
          <a:stretch/>
        </p:blipFill>
        <p:spPr>
          <a:xfrm>
            <a:off x="146160" y="476280"/>
            <a:ext cx="9888480" cy="1687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661680" y="2050560"/>
            <a:ext cx="7186680" cy="48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Δωρεάν για τους φοιτητές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Εμπιστευτικές συναντήσεις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Αυστηρά προσωπικό απόρρητο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451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Διαδικασία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ρώτη εκτίμηση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Κύκλος ατομικών συνεδριώ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Ένταξη σε ομάδα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6840360" y="2916360"/>
            <a:ext cx="31924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1" descr=""/>
          <p:cNvPicPr/>
          <p:nvPr/>
        </p:nvPicPr>
        <p:blipFill>
          <a:blip r:embed="rId1"/>
          <a:stretch/>
        </p:blipFill>
        <p:spPr>
          <a:xfrm>
            <a:off x="73080" y="476280"/>
            <a:ext cx="9717120" cy="1547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079280" y="2050920"/>
            <a:ext cx="6553080" cy="5359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104760">
              <a:spcBef>
                <a:spcPts val="799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</a:rPr>
              <a:t>Μέχρι σήμερα </a:t>
            </a:r>
            <a:r>
              <a:rPr b="0" lang="el-GR" sz="3200" spc="-1" strike="noStrike">
                <a:solidFill>
                  <a:srgbClr val="404040"/>
                </a:solidFill>
                <a:latin typeface="Trebuchet MS"/>
              </a:rPr>
              <a:t>(Δεκέμβριος 2013)</a:t>
            </a:r>
            <a:r>
              <a:rPr b="1" lang="el-GR" sz="32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104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ερισσότερα από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</a:rPr>
              <a:t>350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 αιτή-          ματα φοιτητώ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4760">
              <a:spcBef>
                <a:spcPts val="74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00" spc="-1" strike="noStrike">
              <a:solidFill>
                <a:srgbClr val="404040"/>
              </a:solidFill>
              <a:latin typeface="Trebuchet MS"/>
            </a:endParaRPr>
          </a:p>
          <a:p>
            <a:pPr marL="104760">
              <a:lnSpc>
                <a:spcPct val="150000"/>
              </a:lnSpc>
              <a:spcBef>
                <a:spcPts val="700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άνω από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</a:rPr>
              <a:t>2600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 συνεδρίε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50000"/>
              </a:lnSpc>
              <a:spcBef>
                <a:spcPts val="649"/>
              </a:spcBef>
              <a:spcAft>
                <a:spcPts val="850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</a:rPr>
              <a:t>περίπου </a:t>
            </a: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2300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</a:rPr>
              <a:t> ατομικέ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lnSpc>
                <a:spcPct val="50000"/>
              </a:lnSpc>
              <a:spcBef>
                <a:spcPts val="649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</a:rPr>
              <a:t>περίπου </a:t>
            </a: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300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</a:rPr>
              <a:t> ομαδικέ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104760">
              <a:spcBef>
                <a:spcPts val="125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104760">
              <a:spcBef>
                <a:spcPts val="700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8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 ομάδες ανοιχτής ροή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649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6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</a:rPr>
              <a:t> σε συνεργασία με το ΚΨΥ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6624720" y="2535120"/>
            <a:ext cx="34081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1" descr=""/>
          <p:cNvPicPr/>
          <p:nvPr/>
        </p:nvPicPr>
        <p:blipFill>
          <a:blip r:embed="rId1"/>
          <a:stretch/>
        </p:blipFill>
        <p:spPr>
          <a:xfrm>
            <a:off x="146160" y="622440"/>
            <a:ext cx="9789840" cy="1547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661680" y="2339640"/>
            <a:ext cx="6465960" cy="475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Προβλήματα στη φοιτητική ζωή ή στις σπουδές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201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Δυσκολίες προσαρμογής </a:t>
            </a:r>
            <a:br>
              <a:rPr sz="2800"/>
            </a:b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στην ακαδημαϊκή ζω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Έλλειψη κινήτρω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Μειωμένη απόδοσ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Άγχος εξετάσεω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Έλλειψη συγκέντρωση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6840360" y="2771640"/>
            <a:ext cx="31924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1" descr=""/>
          <p:cNvPicPr/>
          <p:nvPr/>
        </p:nvPicPr>
        <p:blipFill>
          <a:blip r:embed="rId1"/>
          <a:stretch/>
        </p:blipFill>
        <p:spPr>
          <a:xfrm>
            <a:off x="146160" y="549360"/>
            <a:ext cx="9644040" cy="1547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502920" y="2266920"/>
            <a:ext cx="7450200" cy="475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Προβλήματα στις </a:t>
            </a:r>
            <a:br>
              <a:rPr sz="3000"/>
            </a:b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διαπροσωπικές σχέσεις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20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Δυσκολίες στις φιλικές, </a:t>
            </a:r>
            <a:br>
              <a:rPr sz="2800"/>
            </a:b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ροσωπικές, οικογενειακές σχέσει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Χαμηλή αυτοεκτίμησ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Μοναξιά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Άγχο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Κατάθλιψ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7201080" y="3059280"/>
            <a:ext cx="283176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1" descr=""/>
          <p:cNvPicPr/>
          <p:nvPr/>
        </p:nvPicPr>
        <p:blipFill>
          <a:blip r:embed="rId1"/>
          <a:stretch/>
        </p:blipFill>
        <p:spPr>
          <a:xfrm>
            <a:off x="146160" y="835200"/>
            <a:ext cx="9789840" cy="15476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661680" y="2700360"/>
            <a:ext cx="7450200" cy="438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Άλλα προβλήματα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20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Εξαρτήσει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Ειδικές ανάγκε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Ψυχοσωματικά προβλήματα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Διαταραχές ύπνου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Διαταραχές διατροφή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799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99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6191280" y="2535120"/>
            <a:ext cx="38415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1" descr=""/>
          <p:cNvPicPr/>
          <p:nvPr/>
        </p:nvPicPr>
        <p:blipFill>
          <a:blip r:embed="rId1"/>
          <a:stretch/>
        </p:blipFill>
        <p:spPr>
          <a:xfrm>
            <a:off x="73080" y="549360"/>
            <a:ext cx="9862920" cy="1547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647280" y="2124000"/>
            <a:ext cx="7450200" cy="468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Διαχείριση κρίσεων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201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Φοιτητής του Π.Θ. με Erasmus στη Γαλλία, με μείζονα καταθλιπτική διαταραχή και αυτοκτονικό ιδεασμ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Ψυχωσικό άτομο, κάτοικος Βόλου,</a:t>
            </a:r>
            <a:br>
              <a:rPr sz="2800"/>
            </a:b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ου κυκλοφορούσε στο Π.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Φοιτήτρια με παραληρητικές ιδέες, </a:t>
            </a:r>
            <a:br>
              <a:rPr sz="2800"/>
            </a:b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που συνελήφθη για κλοπ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60400" indent="-320760"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</a:rPr>
              <a:t>Φοιτητές με ψυχωσικά σύνδρομα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7343640" y="2843280"/>
            <a:ext cx="297684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1" descr=""/>
          <p:cNvPicPr/>
          <p:nvPr/>
        </p:nvPicPr>
        <p:blipFill>
          <a:blip r:embed="rId1"/>
          <a:stretch/>
        </p:blipFill>
        <p:spPr>
          <a:xfrm>
            <a:off x="92160" y="189000"/>
            <a:ext cx="9648720" cy="1547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360360" y="1763280"/>
            <a:ext cx="9672480" cy="558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Την προηγούμενη ακαδημαϊκή χρονιά (2012-2013)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Μόνο στον Βόλο, </a:t>
            </a:r>
            <a:r>
              <a:rPr b="1" lang="el-GR" sz="3000" spc="-1" strike="noStrike">
                <a:solidFill>
                  <a:srgbClr val="404040"/>
                </a:solidFill>
                <a:latin typeface="Trebuchet MS"/>
              </a:rPr>
              <a:t>81</a:t>
            </a: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 άτομα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lvl="1" marL="863640" indent="-320760">
              <a:spcBef>
                <a:spcPts val="751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6624720" y="2535120"/>
            <a:ext cx="3408120" cy="4989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1158840" y="2824200"/>
            <a:ext cx="375624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Τίτλος 1" descr=""/>
          <p:cNvPicPr/>
          <p:nvPr/>
        </p:nvPicPr>
        <p:blipFill>
          <a:blip r:embed="rId1"/>
          <a:stretch/>
        </p:blipFill>
        <p:spPr>
          <a:xfrm>
            <a:off x="396720" y="676440"/>
            <a:ext cx="9247320" cy="156024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3"/>
          <p:cNvSpPr/>
          <p:nvPr/>
        </p:nvSpPr>
        <p:spPr>
          <a:xfrm>
            <a:off x="936720" y="3132000"/>
            <a:ext cx="8999280" cy="29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επτέμβριος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έναρξη άτυπης λειτουργία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201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Μάιος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θεσμοθέτηση (ΦΕΚ 1349/τ.Β΄/07-07-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1" descr=""/>
          <p:cNvPicPr/>
          <p:nvPr/>
        </p:nvPicPr>
        <p:blipFill>
          <a:blip r:embed="rId1"/>
          <a:stretch/>
        </p:blipFill>
        <p:spPr>
          <a:xfrm>
            <a:off x="139680" y="334800"/>
            <a:ext cx="9717120" cy="154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286920" y="1979280"/>
            <a:ext cx="9745560" cy="5148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8760" indent="-32400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Την προηγούμενη ακαδημαϊκή χρονιά (2012-2013)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lvl="1" marL="863640" indent="-320760">
              <a:spcBef>
                <a:spcPts val="751"/>
              </a:spcBef>
              <a:spcAft>
                <a:spcPts val="3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6234120" y="2535120"/>
            <a:ext cx="3841920" cy="4989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3"/>
          <a:stretch/>
        </p:blipFill>
        <p:spPr>
          <a:xfrm>
            <a:off x="1179360" y="2535120"/>
            <a:ext cx="3819600" cy="46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6696000" y="2771640"/>
            <a:ext cx="3384720" cy="4686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708120" y="2516040"/>
            <a:ext cx="6772320" cy="494208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3" descr=""/>
          <p:cNvPicPr/>
          <p:nvPr/>
        </p:nvPicPr>
        <p:blipFill>
          <a:blip r:embed="rId3"/>
          <a:stretch/>
        </p:blipFill>
        <p:spPr>
          <a:xfrm>
            <a:off x="285840" y="549360"/>
            <a:ext cx="9626400" cy="1547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360000" y="2079720"/>
            <a:ext cx="9433080" cy="68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9000"/>
          </a:bodyPr>
          <a:p>
            <a:pPr marL="338400" indent="-255960">
              <a:spcBef>
                <a:spcPts val="75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3000" spc="-1" strike="noStrike">
                <a:solidFill>
                  <a:srgbClr val="404040"/>
                </a:solidFill>
                <a:latin typeface="Trebuchet MS"/>
              </a:rPr>
              <a:t>Την προηγούμενη ακαδημαϊκή χρονιά (2012-2013)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Τίτλος 1" descr=""/>
          <p:cNvPicPr/>
          <p:nvPr/>
        </p:nvPicPr>
        <p:blipFill>
          <a:blip r:embed="rId1"/>
          <a:stretch/>
        </p:blipFill>
        <p:spPr>
          <a:xfrm>
            <a:off x="324000" y="457200"/>
            <a:ext cx="9246960" cy="1596960"/>
          </a:xfrm>
          <a:prstGeom prst="rect">
            <a:avLst/>
          </a:prstGeom>
          <a:ln w="0">
            <a:noFill/>
          </a:ln>
        </p:spPr>
      </p:pic>
      <p:sp>
        <p:nvSpPr>
          <p:cNvPr id="227" name="Ορθογώνιο 2"/>
          <p:cNvSpPr/>
          <p:nvPr/>
        </p:nvSpPr>
        <p:spPr>
          <a:xfrm>
            <a:off x="936720" y="2556000"/>
            <a:ext cx="73436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ποστολή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Κάλυψη εκπαιδευτικών αναγκ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26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ρακτική άσκησ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26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Διεξαγωγή έρευνα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26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υνεργασία με άλλους φορεί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26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αροχή υπηρεσι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Τίτλος 1" descr=""/>
          <p:cNvPicPr/>
          <p:nvPr/>
        </p:nvPicPr>
        <p:blipFill>
          <a:blip r:embed="rId1"/>
          <a:stretch/>
        </p:blipFill>
        <p:spPr>
          <a:xfrm>
            <a:off x="324000" y="457200"/>
            <a:ext cx="9246960" cy="1596960"/>
          </a:xfrm>
          <a:prstGeom prst="rect">
            <a:avLst/>
          </a:prstGeom>
          <a:ln w="0">
            <a:noFill/>
          </a:ln>
        </p:spPr>
      </p:pic>
      <p:sp>
        <p:nvSpPr>
          <p:cNvPr id="229" name="Ορθογώνιο 2"/>
          <p:cNvSpPr/>
          <p:nvPr/>
        </p:nvSpPr>
        <p:spPr>
          <a:xfrm>
            <a:off x="936720" y="2556000"/>
            <a:ext cx="73436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Εκπαιδευτικό έργο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λαίσιο Πρακτικής Άσκησης για τους μεταπτυχιακούς φοιτητές του ΠΜΣ-Συμβουλευτική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Εποπτεία μεταπτυχιακών φοιτητ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Εποπτεία συνεργαζόμενων εθελοντ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Τίτλος 1" descr=""/>
          <p:cNvPicPr/>
          <p:nvPr/>
        </p:nvPicPr>
        <p:blipFill>
          <a:blip r:embed="rId1"/>
          <a:stretch/>
        </p:blipFill>
        <p:spPr>
          <a:xfrm>
            <a:off x="324000" y="457200"/>
            <a:ext cx="9246960" cy="1596960"/>
          </a:xfrm>
          <a:prstGeom prst="rect">
            <a:avLst/>
          </a:prstGeom>
          <a:ln w="0">
            <a:noFill/>
          </a:ln>
        </p:spPr>
      </p:pic>
      <p:sp>
        <p:nvSpPr>
          <p:cNvPr id="231" name="Ορθογώνιο 2"/>
          <p:cNvSpPr/>
          <p:nvPr/>
        </p:nvSpPr>
        <p:spPr>
          <a:xfrm>
            <a:off x="936720" y="2340000"/>
            <a:ext cx="835164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Ερευνητικό έργο </a:t>
            </a:r>
            <a:r>
              <a:rPr b="0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(Δεκέμβριος 2013)</a:t>
            </a: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13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δημοσιεύσεις σε επιστημονικά περιοδικά: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6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ξενόγλωσσες &amp;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7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ελληνικέ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35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κεφάλαια βιβλίων &amp; πρακτικά συνεδρίων: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3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ξενόγλωσσα &amp;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32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ελληνικ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2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επιμέλειες βιβλί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50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ανακοινώσεις σε συνέδρια:                               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19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ξενόγλωσσες &amp; </a:t>
            </a:r>
            <a:r>
              <a:rPr b="1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31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ελληνικέ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Τίτλος 1" descr=""/>
          <p:cNvPicPr/>
          <p:nvPr/>
        </p:nvPicPr>
        <p:blipFill>
          <a:blip r:embed="rId1"/>
          <a:stretch/>
        </p:blipFill>
        <p:spPr>
          <a:xfrm>
            <a:off x="324000" y="317520"/>
            <a:ext cx="9246960" cy="1560600"/>
          </a:xfrm>
          <a:prstGeom prst="rect">
            <a:avLst/>
          </a:prstGeom>
          <a:ln w="0">
            <a:noFill/>
          </a:ln>
        </p:spPr>
      </p:pic>
      <p:sp>
        <p:nvSpPr>
          <p:cNvPr id="233" name="Ορθογώνιο 2"/>
          <p:cNvSpPr/>
          <p:nvPr/>
        </p:nvSpPr>
        <p:spPr>
          <a:xfrm>
            <a:off x="287280" y="1908000"/>
            <a:ext cx="964872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αροχή υπηρεσιώ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ψυχολογική στήριξη και συμβουλευτική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(</a:t>
            </a: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τομική &amp; ομαδική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υμβουλευτική Υπηρεσία Φοιτητών (βλ. διαφάνειες 10-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εφαρμογή προγραμμάτων παρέμβαση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νάπτυξη δεξιοτήτ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ντιμετώπιση προβλημάτ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αροχή εκπαίδευση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spcAft>
                <a:spcPts val="326"/>
              </a:spcAft>
              <a:buClr>
                <a:srgbClr val="c3260c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αραγωγή εκπαιδευτικού υλικού, δημοσιεύσεων &amp; εκδόσε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Τίτλος 1" descr=""/>
          <p:cNvPicPr/>
          <p:nvPr/>
        </p:nvPicPr>
        <p:blipFill>
          <a:blip r:embed="rId1"/>
          <a:stretch/>
        </p:blipFill>
        <p:spPr>
          <a:xfrm>
            <a:off x="328680" y="23760"/>
            <a:ext cx="9242280" cy="1567080"/>
          </a:xfrm>
          <a:prstGeom prst="rect">
            <a:avLst/>
          </a:prstGeom>
          <a:ln w="0">
            <a:noFill/>
          </a:ln>
        </p:spPr>
      </p:pic>
      <p:sp>
        <p:nvSpPr>
          <p:cNvPr id="235" name="Ορθογώνιο 3"/>
          <p:cNvSpPr/>
          <p:nvPr/>
        </p:nvSpPr>
        <p:spPr>
          <a:xfrm>
            <a:off x="144360" y="1474920"/>
            <a:ext cx="9720360" cy="57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Υλοποιούμενες δράσει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υνεργασία με Κέντρο Ψυχικής Υγείας, Αχιλλοπούλειο Νοσοκομείο Βόλου (Η. Καμπούρης &amp; Ι. Μωραΐτου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υνεργαζόμενη δομή στο έργο: </a:t>
            </a:r>
            <a:r>
              <a:rPr b="0" i="1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«Εφαρμογή δράσεων για την ανάπτυξη προτύπου δικτύου υπηρεσιών υποστήριξης παιδιών με αναπηρία που φοιτούν σε ειδικά σχολεία και ζουν στο ορφανοτροφείο Βόλου» 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(ΕΛΚΕ 2011-2014, Επ. Υπεύθ. Α. Βλάχου, Αν. Καθηγήτρια ΠΤΕΑ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Υποστηρικτική δομή στο έργο: </a:t>
            </a:r>
            <a:r>
              <a:rPr b="0" i="1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«Η πρόσβαση των φοιτητών με ειδικές ανάγκες στο φυσικό και μαθησιακό περιβάλλον του Πανεπιστημίου Θεσσαλίας»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(ΕΛΚΕ 2010-2013, Επ. Υπεύθ. Μ. Νικολαραϊζη, Επ. Καθηγήτρια, ΠΤΕΑ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Τίτλος 1" descr=""/>
          <p:cNvPicPr/>
          <p:nvPr/>
        </p:nvPicPr>
        <p:blipFill>
          <a:blip r:embed="rId1"/>
          <a:stretch/>
        </p:blipFill>
        <p:spPr>
          <a:xfrm>
            <a:off x="249120" y="244440"/>
            <a:ext cx="9394920" cy="1560600"/>
          </a:xfrm>
          <a:prstGeom prst="rect">
            <a:avLst/>
          </a:prstGeom>
          <a:ln w="0">
            <a:noFill/>
          </a:ln>
        </p:spPr>
      </p:pic>
      <p:sp>
        <p:nvSpPr>
          <p:cNvPr id="237" name="Ορθογώνιο 3"/>
          <p:cNvSpPr/>
          <p:nvPr/>
        </p:nvSpPr>
        <p:spPr>
          <a:xfrm>
            <a:off x="216000" y="1908000"/>
            <a:ext cx="97200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50000"/>
              </a:lnSpc>
              <a:spcBef>
                <a:spcPts val="799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ροοπτικές – μελλοντικές δράσεις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80000"/>
              </a:lnSpc>
              <a:spcBef>
                <a:spcPts val="649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Ιανουάριος 201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457200">
              <a:lnSpc>
                <a:spcPct val="10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Άνοιγμα στην τοπική κοινωνία με παροχή υπηρεσιών σε άτομα εκτός πανεπιστημιακής κοινότητ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49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Υποβολή πρότασης στο Ευρωπαϊκό Πρόγραμμα </a:t>
            </a:r>
            <a:r>
              <a:rPr b="0" i="1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«Δάφνη» 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για την ενδοοικογενειακή βία με τίτλο: </a:t>
            </a:r>
            <a:r>
              <a:rPr b="0" i="1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«</a:t>
            </a:r>
            <a:r>
              <a:rPr b="0" i="1" lang="en-US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Vulnerables empowerment against domestic violence within the family context</a:t>
            </a:r>
            <a:r>
              <a:rPr b="0" i="1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» </a:t>
            </a:r>
            <a:r>
              <a:rPr b="0" lang="el-GR" sz="2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με εταίρου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5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Arial"/>
              <a:buChar char="•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457200">
              <a:lnSpc>
                <a:spcPct val="5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University of Bath (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γγλί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457200">
              <a:lnSpc>
                <a:spcPct val="5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Ινστιτούτο Ψυχοθεραπείας Κύπρου (Κύπρο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457200">
              <a:lnSpc>
                <a:spcPct val="5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ορεία Υγείας - Αστική μη Κερδοσκοπική Εταιρεία (Ελλάδ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457200">
              <a:lnSpc>
                <a:spcPct val="50000"/>
              </a:lnSpc>
              <a:spcBef>
                <a:spcPts val="601"/>
              </a:spcBef>
              <a:spcAft>
                <a:spcPts val="850"/>
              </a:spcAft>
              <a:buClr>
                <a:srgbClr val="c3260c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Ινστιτούτο Ψυχοκοινωνικής Ανάπτυξης (Ελλάδ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Τίτλος 1" descr=""/>
          <p:cNvPicPr/>
          <p:nvPr/>
        </p:nvPicPr>
        <p:blipFill>
          <a:blip r:embed="rId1"/>
          <a:stretch/>
        </p:blipFill>
        <p:spPr>
          <a:xfrm>
            <a:off x="231840" y="171360"/>
            <a:ext cx="9393120" cy="1565280"/>
          </a:xfrm>
          <a:prstGeom prst="rect">
            <a:avLst/>
          </a:prstGeom>
          <a:ln w="0">
            <a:noFill/>
          </a:ln>
        </p:spPr>
      </p:pic>
      <p:sp>
        <p:nvSpPr>
          <p:cNvPr id="239" name="Ορθογώνιο 3"/>
          <p:cNvSpPr/>
          <p:nvPr/>
        </p:nvSpPr>
        <p:spPr>
          <a:xfrm>
            <a:off x="412920" y="2195640"/>
            <a:ext cx="9432720" cy="81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50000"/>
              </a:lnSpc>
              <a:spcBef>
                <a:spcPts val="799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Προοπτικές – μελλοντικές δράσεις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χέδιο πρότασης για τη δημιουργία </a:t>
            </a:r>
            <a:r>
              <a:rPr b="0" i="1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«Πολυδύναμου κέντρου ψυχοκοινωνικής υποστήριξη ατόμων με προβλήματα εξάρτησης από ψυχοτρόπος ουσίες και ατόμων που βιώνουν κοινωνικό αποκλεισμό».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i="1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	</a:t>
            </a: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Σε συνεργασία μ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080" indent="-343080">
              <a:lnSpc>
                <a:spcPct val="50000"/>
              </a:lnSpc>
              <a:spcBef>
                <a:spcPts val="601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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Ιερά Μητρόπολη Δημητριάδος &amp; Αλμυρο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080" indent="-343080">
              <a:lnSpc>
                <a:spcPct val="50000"/>
              </a:lnSpc>
              <a:spcBef>
                <a:spcPts val="601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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4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στική μη Κερδοσκοπική Εταιρεία Πορεία Υγεί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26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0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Έχει βρεθεί χορηγός για το κτίριο που θα στεγαστεί το κέντρ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r>
              <a:rPr b="0" lang="el-GR" sz="20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Αναζητούνται χορηγοί για οικονομική στήριξη του κέντρο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324080" indent="-34308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324080" indent="-34308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50000"/>
              </a:lnSpc>
              <a:spcBef>
                <a:spcPts val="700"/>
              </a:spcBef>
              <a:spcAft>
                <a:spcPts val="1426"/>
              </a:spcAft>
              <a:buClr>
                <a:srgbClr val="c3260c"/>
              </a:buClr>
              <a:buSzPct val="45000"/>
              <a:buFont typeface="Wingdings" charset="2"/>
              <a:buChar char="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10064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27:25Z</dcterms:created>
  <dc:creator>T.G. Dallas</dc:creator>
  <dc:description/>
  <dc:language>en-US</dc:language>
  <cp:lastModifiedBy>Kleftaras</cp:lastModifiedBy>
  <dcterms:modified xsi:type="dcterms:W3CDTF">2014-01-15T11:22:22Z</dcterms:modified>
  <cp:revision>72</cp:revision>
  <dc:subject/>
  <dc:title>Παρουσίαση του PowerPoint</dc:title>
</cp:coreProperties>
</file>