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3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4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1972C-EB32-43DB-A44A-57687C440A0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2B254-07FC-4827-8990-EF805C84CD8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59932-AF2C-4A8E-84E0-A8809FD500F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33FB2-B052-4755-9436-18306C6D5D1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81A8D-6C1D-43EE-9EBA-8D8C776AD45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EBCFB-ADF5-4D50-9292-AEC4980BA92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75C8C-42D1-411D-A4EF-18C3CAE492B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FB60E-BD39-4D00-BF41-91D89ECBED0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3C0E3-73AD-48E5-9928-73E01C70569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7C0D5-09E7-4655-B295-EBD43AC1830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8576E-761B-4F8F-85F1-6494C83E470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7FD20-3043-4A0C-9EB5-36AE0344C7B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A0342-7007-4DB1-A642-C90DD26675B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F61-1D73-4151-B315-41F0C79E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ED7-0A4C-4D0E-AABA-EBF24442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4B7-20E9-4ECA-8F3C-B48B5B70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B51-FB70-4930-B7F6-C860E2A9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F415-C8A6-47E4-950C-78A4A1B7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7456-9BEC-4FC9-9740-DF6D1DE1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2293-76E4-4ECB-95B7-97390506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682E-FD05-46C9-B5B3-C70F2656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B303-330A-406D-8768-2E2E4F35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5EEC-8A31-4DD1-A9CE-4AE43CA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DD40-1910-48BD-89E2-8360B72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4A8-C170-4629-9A8F-E7936F5A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13F9-3ECC-4CEE-839D-A77AA34F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7945-9EDD-497C-94A8-60D2927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7682-A0DD-4831-A9AE-0214DD45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0F94-FBF8-4F42-A2AA-778686C1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8BD6-9C32-4B66-AC76-F11B29BA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579E-B437-4CAF-B128-53D1C381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1C31-0FF2-481D-8CEC-2E27E507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AF4F-F7F5-46FE-9C81-C881F40A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D08E-B1F5-4595-AB5F-2E7CCC04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332A-F314-4B52-BFFC-9FD20B1F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39D-9870-4B4F-B457-4748CBD8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E998-0ECA-44D6-B7BE-14F6A61E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01EF-6750-4FF2-BEE3-0E67124D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1F52-87BB-4493-84DE-892BF85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BA9D-2BEB-4233-8285-F3B30C66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317D-CE58-4E0B-AEEE-4C3E89D7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49DB-4968-4978-92AA-16EDB871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18329-F10C-446D-83FA-96CCA5E0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8440-C6BB-4671-A7EE-BB7E8032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B4FF-3577-40B2-BF16-2966FBB0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12FC-FB06-4E49-A2AE-89B918D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0CE-B520-4AD8-B8F7-04FC01A4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86B5-1033-4A35-8BD5-73604B10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08B1-9F22-46DB-8C73-B0EC9381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93E0-836F-4D8E-8D1E-0F13FEB0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87C1B-9403-4093-9DFE-E77C33C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5C0C1-6293-4607-B658-2202D5B6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681F-A93E-4278-B962-F348AFD5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3CFCF-8353-480C-B643-A10BCF52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17B0E-9E37-444D-AC43-5DF8DF8B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BBFD0-A5A6-4B43-B3E5-6A6E9E7B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D61-1452-4C35-8AB4-4C77AE6B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155-BD5B-47EE-BC52-4DB7F709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F21-1C21-4421-A6C0-E3A2A336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83F-5769-4E9E-9261-2F92DE51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C49-F248-43B2-B6E1-54D45F58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l-GR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DE660C-E3AB-4AB8-B3C2-175E0CE4817D}" type="slidenum">
              <a:rPr b="1" lang="el-GR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l-GR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6AAF77-03B3-46C8-83D5-B9E8D60D1D00}" type="slidenum">
              <a:rPr b="1" lang="el-GR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l-GR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14AF15-E70C-4D02-ADAB-68BB00B726A3}" type="slidenum">
              <a:rPr b="1" lang="el-GR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l-GR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AF2E08-A5BE-496A-80DE-DD87019CB700}" type="slidenum">
              <a:rPr b="1" lang="el-GR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7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Τίτλος 1" descr=""/>
          <p:cNvPicPr/>
          <p:nvPr/>
        </p:nvPicPr>
        <p:blipFill>
          <a:blip r:embed="rId1"/>
          <a:stretch/>
        </p:blipFill>
        <p:spPr>
          <a:xfrm>
            <a:off x="573120" y="1054080"/>
            <a:ext cx="89978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6335640" y="2411280"/>
            <a:ext cx="3708360" cy="5113440"/>
          </a:xfrm>
          <a:prstGeom prst="rect">
            <a:avLst/>
          </a:prstGeom>
          <a:ln w="0">
            <a:noFill/>
          </a:ln>
        </p:spPr>
      </p:pic>
      <p:pic>
        <p:nvPicPr>
          <p:cNvPr id="241" name="Text Box 2" descr=""/>
          <p:cNvPicPr/>
          <p:nvPr/>
        </p:nvPicPr>
        <p:blipFill>
          <a:blip r:embed="rId2"/>
          <a:stretch/>
        </p:blipFill>
        <p:spPr>
          <a:xfrm>
            <a:off x="109440" y="324000"/>
            <a:ext cx="925380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1" descr=""/>
          <p:cNvPicPr/>
          <p:nvPr/>
        </p:nvPicPr>
        <p:blipFill>
          <a:blip r:embed="rId1"/>
          <a:stretch/>
        </p:blipFill>
        <p:spPr>
          <a:xfrm>
            <a:off x="73080" y="285840"/>
            <a:ext cx="9961560" cy="1506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008000" y="1907640"/>
            <a:ext cx="5291280" cy="5396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Βόλος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 μόνιμος σύμβουλο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4 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εθελοντές σύμβουλο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Λάρισα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75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6 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εθελοντές σύμβουλοι</a:t>
            </a:r>
            <a:r>
              <a:rPr b="0" lang="el-GR" sz="2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 εθελοντής επόπτη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Τρίκαλα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 εθελοντής σύμβουλο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 εθελοντής επόπτη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Καρδίτσα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εθελοντής σύμβουλο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Λαμία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εθελοντής σύμβουλο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6912000" y="2535120"/>
            <a:ext cx="3120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1" descr=""/>
          <p:cNvPicPr/>
          <p:nvPr/>
        </p:nvPicPr>
        <p:blipFill>
          <a:blip r:embed="rId1"/>
          <a:stretch/>
        </p:blipFill>
        <p:spPr>
          <a:xfrm>
            <a:off x="73080" y="189000"/>
            <a:ext cx="10009080" cy="1506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718920" y="1692000"/>
            <a:ext cx="6624360" cy="56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Νοέμβριος 2007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έναρξη λειτουργίας στον Βόλο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Φεβρουάριος 2008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πρώτες συνεδρίε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Μάρτιος 2008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συνεργασία με το Κέντρο Ψυχικής Υγεία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Ιανουάριος 2011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απασχόληση εθελοντών στο Βόλο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Σεπτέμβριος 2011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παραρτήματα και στις άλλες πόλει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Νοέμβριος 2011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πρακτική άσκηση μεταπτυχιακώ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6696000" y="2535120"/>
            <a:ext cx="33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1" descr=""/>
          <p:cNvPicPr/>
          <p:nvPr/>
        </p:nvPicPr>
        <p:blipFill>
          <a:blip r:embed="rId1"/>
          <a:stretch/>
        </p:blipFill>
        <p:spPr>
          <a:xfrm>
            <a:off x="146160" y="476280"/>
            <a:ext cx="9888480" cy="1687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661680" y="2050560"/>
            <a:ext cx="7186680" cy="48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Δωρεάν για τους φοιτητές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Εμπιστευτικές συναντήσεις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Αυστηρά προσωπικό απόρρητο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45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Διαδικασία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ρώτη εκτίμηση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Κύκλος ατομικών συνεδριώ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Ένταξη σε ομάδα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6840360" y="2916360"/>
            <a:ext cx="31924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1" descr=""/>
          <p:cNvPicPr/>
          <p:nvPr/>
        </p:nvPicPr>
        <p:blipFill>
          <a:blip r:embed="rId1"/>
          <a:stretch/>
        </p:blipFill>
        <p:spPr>
          <a:xfrm>
            <a:off x="73080" y="476280"/>
            <a:ext cx="9717120" cy="1547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079280" y="2050920"/>
            <a:ext cx="6553080" cy="5359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104760">
              <a:spcBef>
                <a:spcPts val="799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</a:rPr>
              <a:t>Μέχρι σήμερα </a:t>
            </a:r>
            <a:r>
              <a:rPr b="0" lang="el-GR" sz="3200" spc="-1" strike="noStrike">
                <a:solidFill>
                  <a:srgbClr val="404040"/>
                </a:solidFill>
                <a:latin typeface="Trebuchet MS"/>
              </a:rPr>
              <a:t>(Δεκέμβριος 2013)</a:t>
            </a:r>
            <a:r>
              <a:rPr b="1" lang="el-GR" sz="32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ερισσότερα από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</a:rPr>
              <a:t>350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 αιτή-          ματα φοιτητώ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spcBef>
                <a:spcPts val="74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lnSpc>
                <a:spcPct val="150000"/>
              </a:lnSpc>
              <a:spcBef>
                <a:spcPts val="700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άνω από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</a:rPr>
              <a:t>2600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 συνεδρίε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50000"/>
              </a:lnSpc>
              <a:spcBef>
                <a:spcPts val="649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περίπου </a:t>
            </a: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2300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 ατομικέ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50000"/>
              </a:lnSpc>
              <a:spcBef>
                <a:spcPts val="649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περίπου </a:t>
            </a: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300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 ομαδικέ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spcBef>
                <a:spcPts val="125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spcBef>
                <a:spcPts val="700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 ομάδες ανοιχτής ροή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649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 σε συνεργασία με το ΚΨΥ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6624720" y="2535120"/>
            <a:ext cx="34081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1" descr=""/>
          <p:cNvPicPr/>
          <p:nvPr/>
        </p:nvPicPr>
        <p:blipFill>
          <a:blip r:embed="rId1"/>
          <a:stretch/>
        </p:blipFill>
        <p:spPr>
          <a:xfrm>
            <a:off x="146160" y="622440"/>
            <a:ext cx="9789840" cy="1547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661680" y="2339640"/>
            <a:ext cx="6465960" cy="475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Προβλήματα στη φοιτητική ζωή ή στις σπουδές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20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Δυσκολίες προσαρμογής </a:t>
            </a:r>
            <a:br>
              <a:rPr sz="2800"/>
            </a:b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στην ακαδημαϊκή ζω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Έλλειψη κινήτρω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Μειωμένη απόδοσ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Άγχος εξετάσεω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Έλλειψη συγκέντρωση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6840360" y="2771640"/>
            <a:ext cx="31924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1" descr=""/>
          <p:cNvPicPr/>
          <p:nvPr/>
        </p:nvPicPr>
        <p:blipFill>
          <a:blip r:embed="rId1"/>
          <a:stretch/>
        </p:blipFill>
        <p:spPr>
          <a:xfrm>
            <a:off x="146160" y="549360"/>
            <a:ext cx="9644040" cy="1547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502920" y="2266920"/>
            <a:ext cx="7450200" cy="475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Προβλήματα στις </a:t>
            </a:r>
            <a:br>
              <a:rPr sz="3000"/>
            </a:b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διαπροσωπικές σχέσεις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2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Δυσκολίες στις φιλικές, </a:t>
            </a:r>
            <a:br>
              <a:rPr sz="2800"/>
            </a:b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ροσωπικές, οικογενειακές σχέσει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Χαμηλή αυτοεκτίμησ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Μοναξιά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Άγχο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Κατάθλιψ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7201080" y="3059280"/>
            <a:ext cx="283176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1" descr=""/>
          <p:cNvPicPr/>
          <p:nvPr/>
        </p:nvPicPr>
        <p:blipFill>
          <a:blip r:embed="rId1"/>
          <a:stretch/>
        </p:blipFill>
        <p:spPr>
          <a:xfrm>
            <a:off x="146160" y="835200"/>
            <a:ext cx="9789840" cy="1547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661680" y="2700360"/>
            <a:ext cx="7450200" cy="438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Άλλα προβλήματα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2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Εξαρτήσει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Ειδικές ανάγκε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Ψυχοσωματικά προβλήματα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Διαταραχές ύπνου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Διαταραχές διατροφή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99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99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6191280" y="2535120"/>
            <a:ext cx="3841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1" descr=""/>
          <p:cNvPicPr/>
          <p:nvPr/>
        </p:nvPicPr>
        <p:blipFill>
          <a:blip r:embed="rId1"/>
          <a:stretch/>
        </p:blipFill>
        <p:spPr>
          <a:xfrm>
            <a:off x="73080" y="549360"/>
            <a:ext cx="9862920" cy="1547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47280" y="2124000"/>
            <a:ext cx="7450200" cy="468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Διαχείριση κρίσεων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20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Φοιτητής του Π.Θ. με Erasmus στη Γαλλία, με μείζονα καταθλιπτική διαταραχή και αυτοκτονικό ιδεασμ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Ψυχωσικό άτομο, κάτοικος Βόλου,</a:t>
            </a:r>
            <a:br>
              <a:rPr sz="2800"/>
            </a:b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ου κυκλοφορούσε στο Π.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Φοιτήτρια με παραληρητικές ιδέες, </a:t>
            </a:r>
            <a:br>
              <a:rPr sz="2800"/>
            </a:b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ου συνελήφθη για κλοπ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Φοιτητές με ψυχωσικά σύνδρομα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7343640" y="2843280"/>
            <a:ext cx="29768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1" descr=""/>
          <p:cNvPicPr/>
          <p:nvPr/>
        </p:nvPicPr>
        <p:blipFill>
          <a:blip r:embed="rId1"/>
          <a:stretch/>
        </p:blipFill>
        <p:spPr>
          <a:xfrm>
            <a:off x="92160" y="189000"/>
            <a:ext cx="9648720" cy="1547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360360" y="1763280"/>
            <a:ext cx="9672480" cy="558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Την προηγούμενη ακαδημαϊκή χρονιά (2012-2013)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Μόνο στον Βόλο, </a:t>
            </a: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81</a:t>
            </a: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 άτομα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lvl="1" marL="863640" indent="-320760">
              <a:spcBef>
                <a:spcPts val="75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6624720" y="2535120"/>
            <a:ext cx="3408120" cy="4989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1158840" y="2824200"/>
            <a:ext cx="375624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Τίτλος 1" descr=""/>
          <p:cNvPicPr/>
          <p:nvPr/>
        </p:nvPicPr>
        <p:blipFill>
          <a:blip r:embed="rId1"/>
          <a:stretch/>
        </p:blipFill>
        <p:spPr>
          <a:xfrm>
            <a:off x="396720" y="676440"/>
            <a:ext cx="9247320" cy="156024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3"/>
          <p:cNvSpPr/>
          <p:nvPr/>
        </p:nvSpPr>
        <p:spPr>
          <a:xfrm>
            <a:off x="936720" y="3132000"/>
            <a:ext cx="899928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επτέμβριος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έναρξη άτυπης λειτουργί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201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Μάιος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θεσμοθέτηση (ΦΕΚ 1349/τ.Β΄/07-07-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1" descr=""/>
          <p:cNvPicPr/>
          <p:nvPr/>
        </p:nvPicPr>
        <p:blipFill>
          <a:blip r:embed="rId1"/>
          <a:stretch/>
        </p:blipFill>
        <p:spPr>
          <a:xfrm>
            <a:off x="139680" y="334800"/>
            <a:ext cx="9717120" cy="154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286920" y="1979280"/>
            <a:ext cx="9745560" cy="514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Την προηγούμενη ακαδημαϊκή χρονιά (2012-2013)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lvl="1" marL="863640" indent="-320760">
              <a:spcBef>
                <a:spcPts val="75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6234120" y="2535120"/>
            <a:ext cx="3841920" cy="4989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1179360" y="2535120"/>
            <a:ext cx="3819600" cy="46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6696000" y="2771640"/>
            <a:ext cx="3384720" cy="4686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708120" y="2516040"/>
            <a:ext cx="6772320" cy="494208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3" descr=""/>
          <p:cNvPicPr/>
          <p:nvPr/>
        </p:nvPicPr>
        <p:blipFill>
          <a:blip r:embed="rId3"/>
          <a:stretch/>
        </p:blipFill>
        <p:spPr>
          <a:xfrm>
            <a:off x="285840" y="549360"/>
            <a:ext cx="9626400" cy="1547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360000" y="2079720"/>
            <a:ext cx="9433080" cy="68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9000"/>
          </a:bodyPr>
          <a:p>
            <a:pPr marL="338400" indent="-25596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Την προηγούμενη ακαδημαϊκή χρονιά (2012-2013)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Τίτλος 1" descr=""/>
          <p:cNvPicPr/>
          <p:nvPr/>
        </p:nvPicPr>
        <p:blipFill>
          <a:blip r:embed="rId1"/>
          <a:stretch/>
        </p:blipFill>
        <p:spPr>
          <a:xfrm>
            <a:off x="324000" y="457200"/>
            <a:ext cx="9246960" cy="1596960"/>
          </a:xfrm>
          <a:prstGeom prst="rect">
            <a:avLst/>
          </a:prstGeom>
          <a:ln w="0">
            <a:noFill/>
          </a:ln>
        </p:spPr>
      </p:pic>
      <p:sp>
        <p:nvSpPr>
          <p:cNvPr id="227" name="Ορθογώνιο 2"/>
          <p:cNvSpPr/>
          <p:nvPr/>
        </p:nvSpPr>
        <p:spPr>
          <a:xfrm>
            <a:off x="936720" y="2556000"/>
            <a:ext cx="73436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ποστολή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Κάλυψη εκπαιδευτικών αναγκ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26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ρακτική άσκησ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26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Διεξαγωγή έρευν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26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υνεργασία με άλλους φορεί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26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αροχή υπηρεσι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Τίτλος 1" descr=""/>
          <p:cNvPicPr/>
          <p:nvPr/>
        </p:nvPicPr>
        <p:blipFill>
          <a:blip r:embed="rId1"/>
          <a:stretch/>
        </p:blipFill>
        <p:spPr>
          <a:xfrm>
            <a:off x="324000" y="457200"/>
            <a:ext cx="9246960" cy="1596960"/>
          </a:xfrm>
          <a:prstGeom prst="rect">
            <a:avLst/>
          </a:prstGeom>
          <a:ln w="0">
            <a:noFill/>
          </a:ln>
        </p:spPr>
      </p:pic>
      <p:sp>
        <p:nvSpPr>
          <p:cNvPr id="229" name="Ορθογώνιο 2"/>
          <p:cNvSpPr/>
          <p:nvPr/>
        </p:nvSpPr>
        <p:spPr>
          <a:xfrm>
            <a:off x="936720" y="2556000"/>
            <a:ext cx="73436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κπαιδευτικό έργο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λαίσιο Πρακτικής Άσκησης για τους μεταπτυχιακούς φοιτητές του ΠΜΣ-Συμβουλευτική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ποπτεία μεταπτυχιακών φοιτητ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ποπτεία συνεργαζόμενων εθελοντ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Τίτλος 1" descr=""/>
          <p:cNvPicPr/>
          <p:nvPr/>
        </p:nvPicPr>
        <p:blipFill>
          <a:blip r:embed="rId1"/>
          <a:stretch/>
        </p:blipFill>
        <p:spPr>
          <a:xfrm>
            <a:off x="324000" y="457200"/>
            <a:ext cx="9246960" cy="1596960"/>
          </a:xfrm>
          <a:prstGeom prst="rect">
            <a:avLst/>
          </a:prstGeom>
          <a:ln w="0">
            <a:noFill/>
          </a:ln>
        </p:spPr>
      </p:pic>
      <p:sp>
        <p:nvSpPr>
          <p:cNvPr id="231" name="Ορθογώνιο 2"/>
          <p:cNvSpPr/>
          <p:nvPr/>
        </p:nvSpPr>
        <p:spPr>
          <a:xfrm>
            <a:off x="936720" y="2340000"/>
            <a:ext cx="835164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ρευνητικό έργο </a:t>
            </a:r>
            <a:r>
              <a:rPr b="0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(Δεκέμβριος 2013)</a:t>
            </a: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13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δημοσιεύσεις σε επιστημονικά περιοδικά: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6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ξενόγλωσσες &amp;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7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ελληνικέ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35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κεφάλαια βιβλίων &amp; πρακτικά συνεδρίων: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3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ξενόγλωσσα &amp;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32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ελληνικ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2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επιμέλειες βιβλί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50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ανακοινώσεις σε συνέδρια:                               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19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ξενόγλωσσες &amp;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31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ελληνικέ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Τίτλος 1" descr=""/>
          <p:cNvPicPr/>
          <p:nvPr/>
        </p:nvPicPr>
        <p:blipFill>
          <a:blip r:embed="rId1"/>
          <a:stretch/>
        </p:blipFill>
        <p:spPr>
          <a:xfrm>
            <a:off x="324000" y="317520"/>
            <a:ext cx="9246960" cy="1560600"/>
          </a:xfrm>
          <a:prstGeom prst="rect">
            <a:avLst/>
          </a:prstGeom>
          <a:ln w="0">
            <a:noFill/>
          </a:ln>
        </p:spPr>
      </p:pic>
      <p:sp>
        <p:nvSpPr>
          <p:cNvPr id="233" name="Ορθογώνιο 2"/>
          <p:cNvSpPr/>
          <p:nvPr/>
        </p:nvSpPr>
        <p:spPr>
          <a:xfrm>
            <a:off x="287280" y="1908000"/>
            <a:ext cx="964872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αροχή υπηρεσιώ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ψυχολογική στήριξη και συμβουλευτική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(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τομική &amp; ομαδική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υμβουλευτική Υπηρεσία Φοιτητών (βλ. διαφάνειες 10-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φαρμογή προγραμμάτων παρέμβα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νάπτυξη δεξιοτήτ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ντιμετώπιση προβλημάτ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αροχή εκπαίδευ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αραγωγή εκπαιδευτικού υλικού, δημοσιεύσεων &amp; εκδόσε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Τίτλος 1" descr=""/>
          <p:cNvPicPr/>
          <p:nvPr/>
        </p:nvPicPr>
        <p:blipFill>
          <a:blip r:embed="rId1"/>
          <a:stretch/>
        </p:blipFill>
        <p:spPr>
          <a:xfrm>
            <a:off x="328680" y="23760"/>
            <a:ext cx="9242280" cy="1567080"/>
          </a:xfrm>
          <a:prstGeom prst="rect">
            <a:avLst/>
          </a:prstGeom>
          <a:ln w="0">
            <a:noFill/>
          </a:ln>
        </p:spPr>
      </p:pic>
      <p:sp>
        <p:nvSpPr>
          <p:cNvPr id="235" name="Ορθογώνιο 3"/>
          <p:cNvSpPr/>
          <p:nvPr/>
        </p:nvSpPr>
        <p:spPr>
          <a:xfrm>
            <a:off x="144360" y="1474920"/>
            <a:ext cx="9720360" cy="57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Υλοποιούμενες δράσει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υνεργασία με Κέντρο Ψυχικής Υγείας, Αχιλλοπούλειο Νοσοκομείο Βόλου (Η. Καμπούρης &amp; Ι. Μωραΐτου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υνεργαζόμενη δομή στο έργο: 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Εφαρμογή δράσεων για την ανάπτυξη προτύπου δικτύου υπηρεσιών υποστήριξης παιδιών με αναπηρία που φοιτούν σε ειδικά σχολεία και ζουν στο ορφανοτροφείο Βόλου» 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(ΕΛΚΕ 2011-2014, Επ. Υπεύθ. Α. Βλάχου, Αν. Καθηγήτρια ΠΤΕΑ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Υποστηρικτική δομή στο έργο: 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Η πρόσβαση των φοιτητών με ειδικές ανάγκες στο φυσικό και μαθησιακό περιβάλλον του Πανεπιστημίου Θεσσαλίας»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(ΕΛΚΕ 2010-2013, Επ. Υπεύθ. Μ. Νικολαραϊζη, Επ. Καθηγήτρια, ΠΤΕΑ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Τίτλος 1" descr=""/>
          <p:cNvPicPr/>
          <p:nvPr/>
        </p:nvPicPr>
        <p:blipFill>
          <a:blip r:embed="rId1"/>
          <a:stretch/>
        </p:blipFill>
        <p:spPr>
          <a:xfrm>
            <a:off x="249120" y="244440"/>
            <a:ext cx="9394920" cy="1560600"/>
          </a:xfrm>
          <a:prstGeom prst="rect">
            <a:avLst/>
          </a:prstGeom>
          <a:ln w="0">
            <a:noFill/>
          </a:ln>
        </p:spPr>
      </p:pic>
      <p:sp>
        <p:nvSpPr>
          <p:cNvPr id="237" name="Ορθογώνιο 3"/>
          <p:cNvSpPr/>
          <p:nvPr/>
        </p:nvSpPr>
        <p:spPr>
          <a:xfrm>
            <a:off x="216000" y="1908000"/>
            <a:ext cx="9720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50000"/>
              </a:lnSpc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ροοπτικές – μελλοντικές δράσεις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80000"/>
              </a:lnSpc>
              <a:spcBef>
                <a:spcPts val="649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Ιανουάριος 201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10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Άνοιγμα στην τοπική κοινωνία με παροχή υπηρεσιών σε άτομα εκτός πανεπιστημιακής κοινότητ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49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Υποβολή πρότασης στο Ευρωπαϊκό Πρόγραμμα 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Δάφνη» 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για την ενδοοικογενειακή βία με τίτλο: 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</a:t>
            </a:r>
            <a:r>
              <a:rPr b="0" i="1" lang="en-US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Vulnerables empowerment against domestic violence within the family context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» 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με εταίρου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5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5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University of Bath (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γγλί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5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Ινστιτούτο Ψυχοθεραπείας Κύπρου (Κύπρο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5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ορεία Υγείας - Αστική μη Κερδοσκοπική Εταιρεία (Ελλάδ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5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Ινστιτούτο Ψυχοκοινωνικής Ανάπτυξης (Ελλάδ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Τίτλος 1" descr=""/>
          <p:cNvPicPr/>
          <p:nvPr/>
        </p:nvPicPr>
        <p:blipFill>
          <a:blip r:embed="rId1"/>
          <a:stretch/>
        </p:blipFill>
        <p:spPr>
          <a:xfrm>
            <a:off x="231840" y="171360"/>
            <a:ext cx="9393120" cy="1565280"/>
          </a:xfrm>
          <a:prstGeom prst="rect">
            <a:avLst/>
          </a:prstGeom>
          <a:ln w="0">
            <a:noFill/>
          </a:ln>
        </p:spPr>
      </p:pic>
      <p:sp>
        <p:nvSpPr>
          <p:cNvPr id="239" name="Ορθογώνιο 3"/>
          <p:cNvSpPr/>
          <p:nvPr/>
        </p:nvSpPr>
        <p:spPr>
          <a:xfrm>
            <a:off x="412920" y="2195640"/>
            <a:ext cx="9432720" cy="81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50000"/>
              </a:lnSpc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ροοπτικές – μελλοντικές δράσεις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χέδιο πρότασης για τη δημιουργία </a:t>
            </a:r>
            <a:r>
              <a:rPr b="0" i="1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Πολυδύναμου κέντρου ψυχοκοινωνικής υποστήριξη ατόμων με προβλήματα εξάρτησης από ψυχοτρόπος ουσίες και ατόμων που βιώνουν κοινωνικό αποκλεισμό»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i="1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	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ε συνεργασία μ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080" indent="-343080">
              <a:lnSpc>
                <a:spcPct val="50000"/>
              </a:lnSpc>
              <a:spcBef>
                <a:spcPts val="601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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Ιερά Μητρόπολη Δημητριάδος &amp; Αλμυρο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080" indent="-343080">
              <a:lnSpc>
                <a:spcPct val="50000"/>
              </a:lnSpc>
              <a:spcBef>
                <a:spcPts val="601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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στική μη Κερδοσκοπική Εταιρεία Πορεία Υγεί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26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0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Έχει βρεθεί χορηγός για το κτίριο που θα στεγαστεί το κέντρ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0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ναζητούνται χορηγοί για οικονομική στήριξη του κέντρο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324080" indent="-34308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324080" indent="-34308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5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27:25Z</dcterms:created>
  <dc:creator>T.G. Dallas</dc:creator>
  <dc:description/>
  <dc:language>en-US</dc:language>
  <cp:lastModifiedBy>Kleftaras</cp:lastModifiedBy>
  <dcterms:modified xsi:type="dcterms:W3CDTF">2014-01-15T11:22:22Z</dcterms:modified>
  <cp:revision>72</cp:revision>
  <dc:subject/>
  <dc:title>Παρουσίαση του PowerPoint</dc:title>
</cp:coreProperties>
</file>